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C0A6-EF79-4C40-9A47-C873DD1F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A6CF-716E-4526-B698-48A8FC6F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6544-452C-4D53-B714-FDF335F0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064E-2A96-42C9-ADA4-73EF84E3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3EAE-8E9A-48E8-8BEC-C17B2F90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0744-DFFA-4460-8FDC-E518A533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2EC0-15E0-478A-A83E-4AB5B300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792B-5642-4B40-89BC-8DD32203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F888-1007-431A-8B3A-13F146AA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8FCA-4DF3-46E2-9002-901A802F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E2AA-2191-4CD2-BF40-8B68C851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AD94-A686-485D-8884-BEA5F3D3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9BFA-76B6-4822-96A5-CE1A5D855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1324031lPAzhHwvAo_ph" descr=""/>
          <p:cNvPicPr/>
          <p:nvPr/>
        </p:nvPicPr>
        <p:blipFill>
          <a:blip r:embed="rId2"/>
          <a:stretch/>
        </p:blipFill>
        <p:spPr>
          <a:xfrm>
            <a:off x="1676520" y="-114480"/>
            <a:ext cx="11277360" cy="697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457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33520"/>
            <a:ext cx="1600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abic Transparent"/>
              </a:rPr>
              <a:t>أعدوا طريق الرب واجعلوا سبله قويم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8759574HqrouBNtBi_ph" descr=""/>
          <p:cNvPicPr/>
          <p:nvPr/>
        </p:nvPicPr>
        <p:blipFill>
          <a:blip r:embed="rId2"/>
          <a:stretch/>
        </p:blipFill>
        <p:spPr>
          <a:xfrm>
            <a:off x="0" y="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553080" y="0"/>
            <a:ext cx="2362320" cy="79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سهروا توبوا صلوا وترقبو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فتحوا الأبواب إرفعوا الأعتا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هِّلوا الدروب زينوا القلوب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31324031lPAzhHwvAo_ph" descr=""/>
          <p:cNvPicPr/>
          <p:nvPr/>
        </p:nvPicPr>
        <p:blipFill>
          <a:blip r:embed="rId2"/>
          <a:stretch/>
        </p:blipFill>
        <p:spPr>
          <a:xfrm>
            <a:off x="1676520" y="-114480"/>
            <a:ext cx="11277360" cy="6972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457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33520"/>
            <a:ext cx="1523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abic Transparent"/>
              </a:rPr>
              <a:t>أعدوا طريق الرب واجعلوا سبله قويم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1705873ayScpooCjj_ph" descr=""/>
          <p:cNvPicPr/>
          <p:nvPr/>
        </p:nvPicPr>
        <p:blipFill>
          <a:blip r:embed="rId1"/>
          <a:stretch/>
        </p:blipFill>
        <p:spPr>
          <a:xfrm>
            <a:off x="-3048120" y="0"/>
            <a:ext cx="8001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76920" y="228600"/>
            <a:ext cx="2286000" cy="80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هو الآتي الآتي لا تنتظروا سِوا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حَذارِ يمرُّ دون أن تعرفو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كلُّ آتٍ دونَه مسيح دجال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31324031lPAzhHwvAo_ph" descr=""/>
          <p:cNvPicPr/>
          <p:nvPr/>
        </p:nvPicPr>
        <p:blipFill>
          <a:blip r:embed="rId2"/>
          <a:stretch/>
        </p:blipFill>
        <p:spPr>
          <a:xfrm>
            <a:off x="1676520" y="-114480"/>
            <a:ext cx="11277360" cy="6972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457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33520"/>
            <a:ext cx="1523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abic Transparent"/>
              </a:rPr>
              <a:t>أعدوا طريق الرب واجعلوا سبله قويم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07:58:37Z</dcterms:created>
  <dc:creator>SUZANNE.MD</dc:creator>
  <dc:description/>
  <dc:language>en-US</dc:language>
  <cp:lastModifiedBy>USER</cp:lastModifiedBy>
  <dcterms:modified xsi:type="dcterms:W3CDTF">2002-12-16T14:43:32Z</dcterms:modified>
  <cp:revision>4</cp:revision>
  <dc:subject/>
  <dc:title>PowerPoint Presentation</dc:title>
</cp:coreProperties>
</file>